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18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32.png" ContentType="image/png"/>
  <Override PartName="/ppt/media/image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9.png" ContentType="image/png"/>
  <Override PartName="/ppt/media/image2.wmf" ContentType="image/x-wmf"/>
  <Override PartName="/ppt/media/image21.jpeg" ContentType="image/jpeg"/>
  <Override PartName="/ppt/media/image20.jpeg" ContentType="image/jpe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740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85880"/>
            <a:ext cx="55468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06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706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1070-9A6E-447F-91E0-E7964C9AA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27600" y="877104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ED3-5BA6-4710-9E4A-1235345A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740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385880"/>
            <a:ext cx="55468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5B9-3221-4744-8F27-C921360C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A76-FDE4-4A00-8801-9EEFBB03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77A-5335-4729-9CF1-9D791D15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6CB-F820-47A5-A724-94FEEA4C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3D6-E141-41F3-99C8-177A8893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E95-B10B-4DDC-9071-B91BF69B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0FB-7D5B-4EA7-B1E9-2508F190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CBE-1F34-4104-987B-2BFE9D2E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625-6BBF-4AAA-83FB-1D78EF61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E7C-52A8-46BF-9685-B81A9478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73D-C80B-4EFE-B0B9-95EB790F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CDE-5B3A-4D0A-876E-1891EA67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3C49-EACC-442A-B736-CB7C370FE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hyperlink" Target="http://search.viewpoint.com/pl/imgview?ret_query=k%3Dfinger%2Bpointing%26ps%3D0%26tn%3D0%26type%3Drel38%26color%3Dall%26size%3Dall%26opt%3Dweb&amp;fw=100&amp;fh=105&amp;fs=1.9%20kB&amp;fn=pointing%20finger.jpeg&amp;gif=http://re3.mm-a5.yimg.com/image/3192101540&amp;img=http://www.southalabama.edu/coe/bset/edm/turner/pointing%20finger.jpeg&amp;rc=http://www.southalabama.edu/coe/bset/edm/turner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search.viewpoint.com/pl/imgview?ret_query=k%3Dfinger%2Bpointing%26ps%3D0%26tn%3D0%26type%3Drel38%26color%3Dall%26size%3Dall%26opt%3Dweb&amp;fw=73&amp;fh=100&amp;fs=3.9%20kB&amp;fn=Finger%20Pointing%20016.gif&amp;gif=http://re3.mm-a5.yimg.com/image/3320967320&amp;img=http://www.iup.edu/admissions_and_aid/ACADEMY_OF_CULINARY_ARTS/images/Finger%20Pointing%20016.gif&amp;rc=http://www.iup.edu/admissions_and_aid/ACADEMY_OF_CULINARY_ARTS/images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wireless.att.com/cell-phone-service/cell-phone-details/?device=MOTORAZR+V3xx&amp;q_sku=sku950136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1.wmf"/><Relationship Id="rId12" Type="http://schemas.openxmlformats.org/officeDocument/2006/relationships/image" Target="../media/image32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31.wmf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earch.viewpoint.com/pl/imgview?ret_query=k%3Ddog%2Band%2Bcat%26ps%3D0%26tn%3D0%26type%3Drel38%26color%3Dall%26size%3Dall%26opt%3Dweb&amp;fw=1024&amp;fh=768&amp;fs=53.5%20kB&amp;fn=Dog_and_cat_on_steps_1024.jpg&amp;gif=http://re3.mm-a4.yimg.com/image/2804836139&amp;img=http://www.pc-wallpapers.co.uk/wallpapers/Animals/dogs/Dog_and_cat_on_steps_1024.jpg&amp;rc=http://www.pc-wallpapers.co.uk/viewer.php?cmax=4&amp;cat=DO&amp;id=000015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http://search.viewpoint.com/pl/imgview?ret_query=k%3DCoke%2Bcan%26ps%3D0%26tn%3D0%26type%3Drel38%26color%3Dall%26size%3Dall%26opt%3Dweb&amp;fw=200&amp;fh=393&amp;fs=22.0%20kB&amp;fn=coke-can.jpg&amp;gif=http://re3.mm-a8.yimg.com/image/4114553750&amp;img=http://uranus.it.swin.edu.au/~jn/images/coke-can.jpg&amp;rc=http://www.flyertalk.com/forum/showthread.php?t=410173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search.viewpoint.com/pl/imgview?ret_query=k%3DPepsi%2Bcan%26ps%3D0%26tn%3D0%26type%3Drel38%26color%3Dall%26size%3Dall%26opt%3Dweb&amp;fw=114&amp;fh=220&amp;fs=20.8%20kB&amp;fn=can_pepsi.GIF&amp;gif=http://re3.mm-a8.yimg.com/image/4064579595&amp;img=http://www.voice2page.com/info/can_pepsi.GIF&amp;rc=http://www.voice2page.com/info?M=D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search.viewpoint.com/pl/imgview?ret_query=k%3Dtall%2Band%2Bshort%2Bpeople%26ps%3D0%26tn%3D0%26type%3Drel38%26color%3Dall%26size%3Dall%26opt%3Dweb&amp;fw=180&amp;fh=287&amp;fs=14.4%20kB&amp;fn=tall%20short.jpg&amp;gif=http://re3.mm-a5.yimg.com/image/3159843879&amp;img=http://www.usgtf.com/images/articles/tall&amp;short.jpg&amp;rc=http://www.usgtf.com/articles/tall_short.html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theage.com.au/ffximage/2004/11/11/country_music12_gallery__395x550.jpg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www.starstore.com/acatalog/rap_gods_2005-01.jpg" TargetMode="External"/><Relationship Id="rId13" Type="http://schemas.openxmlformats.org/officeDocument/2006/relationships/image" Target="../media/image12.jpeg"/><Relationship Id="rId14" Type="http://schemas.openxmlformats.org/officeDocument/2006/relationships/hyperlink" Target="http://search.viewpoint.com/pl/imgview?ret_query=k%3DHorror%2Bgenre%26ps%3D20%26tn%3D0%26type%3Drel38%26color%3Dall%26size%3Dall%26opt%3Dweb&amp;fw=289&amp;fh=223&amp;fs=18.6%20kB&amp;fn=genre.jpg&amp;gif=http://re3.mm-a6.yimg.com/image/3671245346&amp;img=http://www.oupchina.com.hk/elt/oper/images/genre.jpg&amp;rc=http://www.oupchina.com.hk/elt/oper/horror.asp" TargetMode="External"/><Relationship Id="rId15" Type="http://schemas.openxmlformats.org/officeDocument/2006/relationships/image" Target="../media/image13.jpeg"/><Relationship Id="rId16" Type="http://schemas.openxmlformats.org/officeDocument/2006/relationships/hyperlink" Target="http://search.viewpoint.com/pl/imgview?ret_query=k%3DOlive%2Bgarden%26ps%3D20%26tn%3D0%26type%3Drel38%26color%3Dall%26size%3Dall%26opt%3Dweb&amp;fw=137&amp;fh=85&amp;fs=5.1%20kB&amp;fn=Olive_Garden.jpg&amp;gif=http://re3.mm-a7.yimg.com/image/3764685563&amp;img=http://www.hamptonu.edu/Interests/campus_location/Restaurant_images/Olive_Garden.jpg&amp;rc=http://www.hamptonu.edu/Interests/campus_location/Restaurant_images" TargetMode="External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arch.viewpoint.com/pl/imgview?ret_query=k%3Dstack%2Bbooks%26ps%3D0%26tn%3D0%26type%3Drel38%26color%3Dall%26size%3Dall%26opt%3Dweb&amp;fw=500&amp;fh=371&amp;fs=36.5%20kB&amp;fn=stack_books.jpg&amp;gif=http://re3.mm-a2.yimg.com/image/2209480408&amp;img=http://ed.web.suu.edu/home4789/stack_books.jpg&amp;rc=http://ed.web.suu.edu/home4789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amazon.co.uk/gp/product/images/B00022BSCA/ref=dp_image_0/026-6102299-2881201?ie=UTF8&amp;n=11052681&amp;s=kitchen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png"/><Relationship Id="rId3" Type="http://schemas.openxmlformats.org/officeDocument/2006/relationships/image" Target="../media/image16.jpeg"/><Relationship Id="rId4" Type="http://schemas.openxmlformats.org/officeDocument/2006/relationships/hyperlink" Target="http://www.amazon.co.uk/gp/product/images/B00022BSCA/ref=dp_image_0/026-6102299-2881201?ie=UTF8&amp;n=11052681&amp;s=kitchen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viewpoint.com/pl/imgview?ret_query=k%3Dblocks%26ps%3D40%26tn%3D0%26type%3Drel38%26color%3Dall%26size%3Dall%26opt%3Dweb&amp;fw=825&amp;fh=594&amp;fs=140.6%20kB&amp;fn=toy%20blocks%2053.jpg&amp;gif=http://re3.mm-a7.yimg.com/image/3876094593&amp;img=http://www.everbe.com/Products/Toys/toy%20blocks%2053.jpg&amp;rc=http://www.everbe.com/Products/Toys/cwdata/toy%20blocks%2053.htm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057400" y="838080"/>
            <a:ext cx="521964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pare and Contrast Es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00400" y="4876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 Ellie Bel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j0408000"/>
          <p:cNvPicPr/>
          <p:nvPr/>
        </p:nvPicPr>
        <p:blipFill>
          <a:blip r:embed="rId1"/>
          <a:stretch/>
        </p:blipFill>
        <p:spPr>
          <a:xfrm>
            <a:off x="3429000" y="2438280"/>
            <a:ext cx="2133720" cy="1830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066680" y="55627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n from : </a:t>
            </a:r>
            <a:r>
              <a:rPr b="0" i="1" lang="ms-MY" sz="1800" spc="-1" strike="noStrike">
                <a:solidFill>
                  <a:srgbClr val="000000"/>
                </a:solidFill>
                <a:latin typeface="Arial"/>
              </a:rPr>
              <a:t>ww2.sjc.edu/ebelcher/</a:t>
            </a:r>
            <a:r>
              <a:rPr b="1" i="1" lang="ms-MY" sz="1800" spc="-1" strike="noStrike">
                <a:solidFill>
                  <a:srgbClr val="000000"/>
                </a:solidFill>
                <a:latin typeface="Arial"/>
              </a:rPr>
              <a:t>Compareandcontrast</a:t>
            </a:r>
            <a:r>
              <a:rPr b="0" i="1" lang="ms-MY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ms-MY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ms-M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457200" y="457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371600" y="457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2096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oin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739152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62120" y="127944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First poi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how this point relates to the first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xplanation of how this point relates to the second i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Second poi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how this point relates to the first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xplanation of how this point relates to the second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Third poi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how this point relates to the first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xplanation of how this point relates to the second i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 Concl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31921015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152280"/>
            <a:ext cx="1451160" cy="152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33209673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541008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09480" y="380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ords to exp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MCj02523370000[1]"/>
          <p:cNvPicPr/>
          <p:nvPr/>
        </p:nvPicPr>
        <p:blipFill>
          <a:blip r:embed="rId1"/>
          <a:stretch/>
        </p:blipFill>
        <p:spPr>
          <a:xfrm>
            <a:off x="6400800" y="2895480"/>
            <a:ext cx="2057400" cy="1525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685800" y="1143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simi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in the same w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ost impor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in com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similar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as well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80880" y="3733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words to exp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33520" y="45720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y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b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inst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on the contr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r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on the other h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Ipod"/>
          <p:cNvPicPr/>
          <p:nvPr/>
        </p:nvPicPr>
        <p:blipFill>
          <a:blip r:embed="rId1"/>
          <a:stretch/>
        </p:blipFill>
        <p:spPr>
          <a:xfrm>
            <a:off x="228600" y="228600"/>
            <a:ext cx="162864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boombox"/>
          <p:cNvPicPr/>
          <p:nvPr/>
        </p:nvPicPr>
        <p:blipFill>
          <a:blip r:embed="rId2"/>
          <a:stretch/>
        </p:blipFill>
        <p:spPr>
          <a:xfrm>
            <a:off x="2057400" y="457200"/>
            <a:ext cx="2209680" cy="1479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28600" y="152280"/>
            <a:ext cx="419112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67652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800600" y="152280"/>
            <a:ext cx="41148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029200" y="4343400"/>
            <a:ext cx="38862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4343400"/>
            <a:ext cx="3886200" cy="228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60199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371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4008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143000" y="26668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groups I assigned, complete the Venn diagram for the two objects. Remember to list the features you are comparing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MOTORAZR V3x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04920"/>
            <a:ext cx="131112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3372955805"/>
          <p:cNvPicPr/>
          <p:nvPr/>
        </p:nvPicPr>
        <p:blipFill>
          <a:blip r:embed="rId5"/>
          <a:stretch/>
        </p:blipFill>
        <p:spPr>
          <a:xfrm>
            <a:off x="7238880" y="304920"/>
            <a:ext cx="118116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3" descr=""/>
          <p:cNvPicPr/>
          <p:nvPr/>
        </p:nvPicPr>
        <p:blipFill>
          <a:blip r:embed="rId6"/>
          <a:stretch/>
        </p:blipFill>
        <p:spPr>
          <a:xfrm>
            <a:off x="380880" y="4576680"/>
            <a:ext cx="1524240" cy="1424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5" descr=""/>
          <p:cNvPicPr/>
          <p:nvPr/>
        </p:nvPicPr>
        <p:blipFill>
          <a:blip r:embed="rId7"/>
          <a:stretch/>
        </p:blipFill>
        <p:spPr>
          <a:xfrm>
            <a:off x="2438280" y="4581360"/>
            <a:ext cx="1447920" cy="1352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6"/>
          <p:cNvSpPr/>
          <p:nvPr/>
        </p:nvSpPr>
        <p:spPr>
          <a:xfrm>
            <a:off x="609480" y="1981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19731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4876920" y="1828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777240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3049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2819520" y="6019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2" descr=""/>
          <p:cNvPicPr/>
          <p:nvPr/>
        </p:nvPicPr>
        <p:blipFill>
          <a:blip r:embed="rId8"/>
          <a:stretch/>
        </p:blipFill>
        <p:spPr>
          <a:xfrm>
            <a:off x="5181480" y="4648320"/>
            <a:ext cx="167652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3"/>
          <p:cNvSpPr/>
          <p:nvPr/>
        </p:nvSpPr>
        <p:spPr>
          <a:xfrm>
            <a:off x="510552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762012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3" descr=""/>
          <p:cNvPicPr/>
          <p:nvPr/>
        </p:nvPicPr>
        <p:blipFill>
          <a:blip r:embed="rId9"/>
          <a:stretch/>
        </p:blipFill>
        <p:spPr>
          <a:xfrm>
            <a:off x="7315200" y="4800600"/>
            <a:ext cx="14479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Object 45"/>
          <p:cNvGraphicFramePr/>
          <p:nvPr/>
        </p:nvGraphicFramePr>
        <p:xfrm>
          <a:off x="6477120" y="304920"/>
          <a:ext cx="609480" cy="609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7" name="Object 4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30492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46" descr=""/>
          <p:cNvPicPr/>
          <p:nvPr/>
        </p:nvPicPr>
        <p:blipFill>
          <a:blip r:embed="rId12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Object 47"/>
          <p:cNvGraphicFramePr/>
          <p:nvPr/>
        </p:nvGraphicFramePr>
        <p:xfrm>
          <a:off x="3352680" y="3886200"/>
          <a:ext cx="60984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0" name="Object 4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2680" y="388620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52" descr=""/>
          <p:cNvPicPr/>
          <p:nvPr/>
        </p:nvPicPr>
        <p:blipFill>
          <a:blip r:embed="rId15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MSj03886220000[1].wav" descr=""/>
          <p:cNvPicPr/>
          <p:nvPr/>
        </p:nvPicPr>
        <p:blipFill>
          <a:blip r:embed="rId16"/>
          <a:stretch/>
        </p:blipFill>
        <p:spPr>
          <a:xfrm>
            <a:off x="40384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"/>
          <p:cNvPicPr/>
          <p:nvPr/>
        </p:nvPicPr>
        <p:blipFill>
          <a:blip r:embed="rId17"/>
          <a:stretch/>
        </p:blipFill>
        <p:spPr>
          <a:xfrm>
            <a:off x="3657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545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399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399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54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09480" y="45720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What does it mean to …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22096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04920" y="41148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971800" y="2286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simila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971800" y="4191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2804836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724280"/>
            <a:ext cx="2133720" cy="148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3339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kinds of things do we compare and contrast in our daily liv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www.gap.com"/>
          <p:cNvPicPr/>
          <p:nvPr/>
        </p:nvPicPr>
        <p:blipFill>
          <a:blip r:embed="rId1"/>
          <a:stretch/>
        </p:blipFill>
        <p:spPr>
          <a:xfrm>
            <a:off x="1143000" y="1981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cn520129"/>
          <p:cNvPicPr/>
          <p:nvPr/>
        </p:nvPicPr>
        <p:blipFill>
          <a:blip r:embed="rId2"/>
          <a:stretch/>
        </p:blipFill>
        <p:spPr>
          <a:xfrm>
            <a:off x="1905120" y="2057400"/>
            <a:ext cx="12668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rch"/>
          <p:cNvPicPr/>
          <p:nvPr/>
        </p:nvPicPr>
        <p:blipFill>
          <a:blip r:embed="rId3"/>
          <a:stretch/>
        </p:blipFill>
        <p:spPr>
          <a:xfrm>
            <a:off x="4267080" y="2286000"/>
            <a:ext cx="857520" cy="6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41145537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3352680"/>
            <a:ext cx="64764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406457959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81280" y="4114800"/>
            <a:ext cx="6382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315984387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4648320"/>
            <a:ext cx="113976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4239718097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781680" y="5257800"/>
            <a:ext cx="81468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2" descr="3368226553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486400" y="5181480"/>
            <a:ext cx="960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367124534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477120" y="2209680"/>
            <a:ext cx="2133360" cy="16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7"/>
          <p:cNvSpPr/>
          <p:nvPr/>
        </p:nvSpPr>
        <p:spPr>
          <a:xfrm>
            <a:off x="68580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6400800" y="479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609480" y="433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16765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2590920" y="4800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4724280" y="1981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au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4" descr="376468556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952880" y="3124080"/>
            <a:ext cx="1371600" cy="844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5"/>
          <p:cNvSpPr/>
          <p:nvPr/>
        </p:nvSpPr>
        <p:spPr>
          <a:xfrm>
            <a:off x="1981080" y="58672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ther things do we compare/contr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09480" y="609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o we compare and contrast th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66680" y="23623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ide if we like tha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6"/>
          <p:cNvSpPr txBox="1"/>
          <p:nvPr/>
        </p:nvSpPr>
        <p:spPr>
          <a:xfrm>
            <a:off x="3124080" y="5181480"/>
            <a:ext cx="2428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y else?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066680" y="31240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if we want to buy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66680" y="3962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gure out if we want to ea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04920" y="304920"/>
            <a:ext cx="7117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do we compare and contr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tera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85800" y="1981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similar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22094804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066680"/>
            <a:ext cx="1752840" cy="1293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685800" y="2743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omparisons to our own l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85800" y="35053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lif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685800" y="42670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other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85800" y="5105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differences and similarities that lead to self understanding, tolerance, accep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woodspoon"/>
          <p:cNvPicPr/>
          <p:nvPr/>
        </p:nvPicPr>
        <p:blipFill>
          <a:blip r:embed="rId1"/>
          <a:stretch/>
        </p:blipFill>
        <p:spPr>
          <a:xfrm>
            <a:off x="685800" y="533520"/>
            <a:ext cx="2514600" cy="1857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066680" y="33526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eatures can we use to compare and contrast the wooden sp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2096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spaghetti sp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094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6400800" y="5257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/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5812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952880" y="5943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Swift Spaghetti Spoon">
            <a:hlinkClick r:id="rId2"/>
          </p:cNvPr>
          <p:cNvPicPr/>
          <p:nvPr/>
        </p:nvPicPr>
        <p:blipFill>
          <a:blip r:embed="rId3"/>
          <a:stretch/>
        </p:blipFill>
        <p:spPr>
          <a:xfrm rot="2787000">
            <a:off x="5449320" y="314280"/>
            <a:ext cx="2473200" cy="2787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838080" y="5029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0" descr="venn2as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762120"/>
            <a:ext cx="754380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1"/>
          <p:cNvSpPr/>
          <p:nvPr/>
        </p:nvSpPr>
        <p:spPr>
          <a:xfrm>
            <a:off x="1905120" y="68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oden Sp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4724280" y="6858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ghetti Sp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371600" y="21337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5105520" y="2057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l &amp; p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373392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304920" y="62485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terial, shape, weight,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7"/>
          <p:cNvSpPr txBox="1"/>
          <p:nvPr/>
        </p:nvSpPr>
        <p:spPr>
          <a:xfrm>
            <a:off x="2971800" y="228600"/>
            <a:ext cx="266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enn Diagram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1371600" y="2590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llow sc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181480" y="2819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ep sc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1447920" y="3124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5257800" y="3276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ttle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523880" y="3657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op sa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53341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op 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4" descr="woodspoon"/>
          <p:cNvPicPr/>
          <p:nvPr/>
        </p:nvPicPr>
        <p:blipFill>
          <a:blip r:embed="rId3"/>
          <a:stretch/>
        </p:blipFill>
        <p:spPr>
          <a:xfrm>
            <a:off x="0" y="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5" descr="Swift Spaghetti Spo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54880" y="0"/>
            <a:ext cx="168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ys to Write a Compare and Contrast Essa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–by- Poin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>
            <a:off x="380880" y="380880"/>
            <a:ext cx="3419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ock Meth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191120" y="990720"/>
            <a:ext cx="43434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First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First point about this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Second point about this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hird point about this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Second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First point about this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Second point about this ite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hird point about this i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Concl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38760945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27432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2:37:26Z</dcterms:created>
  <dc:creator>belcherele</dc:creator>
  <dc:description/>
  <dc:language>en-US</dc:language>
  <cp:lastModifiedBy>AZWIN ARIF</cp:lastModifiedBy>
  <dcterms:modified xsi:type="dcterms:W3CDTF">2011-02-16T22:05:48Z</dcterms:modified>
  <cp:revision>59</cp:revision>
  <dc:subject/>
  <dc:title>Slide 1</dc:title>
</cp:coreProperties>
</file>